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7238-7563-4467-AA36-BF0F96B480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604C-0D97-4D22-8951-37174AF9B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927E-8B8B-45AB-BCC7-DEE84CF6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691A-C565-4C9B-8532-F59933EF1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F5EB-1C34-4B2E-9CE4-EA99A553E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121-099C-4D4D-80ED-85ACE0EB5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ECDC-796A-46AB-8372-FDEBD9C0C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70CE-42E6-496D-A949-8AAF500C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267-03FC-428B-8718-EC79248AC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DE6-B467-4791-8E7B-1CFF342F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7B11-4A6D-4EB0-9527-374F307D1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686A-EF1B-473C-AC13-4E798A60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4065-FBE8-4763-BBEA-3F92A023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B378C-1BE1-4FA8-9298-905FF7EA52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42FF6-2026-4F65-80F7-D88FF9F8C30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CE17-A5A7-4FDD-9E3F-6416B379A4E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7118-BE22-4765-A527-C12E7915D71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’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CCB87-247D-4CD7-9924-B558B23DE2B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“squares”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534F-9121-41D5-98D7-CBD28EF98D9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2438-A6D9-4187-A081-FA0F683A08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55C4-77E2-4158-A826-0D590E7A698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89B1-EE74-465A-AE0C-1958483FB10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F5BF1-C246-42A7-A8F5-066EF44B30F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CAD4-2ADA-4C08-B793-D7F65B6FE13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5362-2953-47E3-8564-058A22E1B28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’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A3A0-4272-4222-BF93-F6FE6DC9E5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’s ½ because ½ of the “square”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CE11-09DC-4FE9-AB95-CFD92839F7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7D35-3F6B-410E-80CB-B01E6470D64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’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9118-85CB-4D6F-91E4-15C4E7042CD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C8354-551B-422C-98C3-638ACAF4CBE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’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8103D-7D7A-4DC7-873A-AD5DAD7B51C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’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3808D-AE12-4655-9F27-ECF481A1723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’s “perimeter”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96073-8FBF-457E-BDAC-C9368887EE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“each” line segment of the “fence”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CBA5-15B5-4EEA-BF88-9ECDBDBF9EA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2F51-31AB-4370-BF60-AEB42658F6F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7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1CBD-35FE-4D7E-9D37-08281063A8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DC3B-580F-40D3-B255-4B52143B10D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“leave”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C138-E4FE-4909-A027-B3E841E894F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RomaK</cp:lastModifiedBy>
  <dcterms:modified xsi:type="dcterms:W3CDTF">2015-09-04T07:40:44Z</dcterms:modified>
  <cp:revision>19</cp:revision>
  <dc:subject/>
  <dc:title>Formulas for Geometry</dc:title>
</cp:coreProperties>
</file>